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  <p:sldId id="359" r:id="rId109"/>
    <p:sldId id="360" r:id="rId110"/>
    <p:sldId id="361" r:id="rId111"/>
    <p:sldId id="362" r:id="rId112"/>
    <p:sldId id="363" r:id="rId113"/>
    <p:sldId id="364" r:id="rId114"/>
    <p:sldId id="365" r:id="rId1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slide" Target="slides/slide104.xml"/><Relationship Id="rId110" Type="http://schemas.openxmlformats.org/officeDocument/2006/relationships/slide" Target="slides/slide105.xml"/><Relationship Id="rId111" Type="http://schemas.openxmlformats.org/officeDocument/2006/relationships/slide" Target="slides/slide106.xml"/><Relationship Id="rId112" Type="http://schemas.openxmlformats.org/officeDocument/2006/relationships/slide" Target="slides/slide107.xml"/><Relationship Id="rId113" Type="http://schemas.openxmlformats.org/officeDocument/2006/relationships/slide" Target="slides/slide108.xml"/><Relationship Id="rId114" Type="http://schemas.openxmlformats.org/officeDocument/2006/relationships/slide" Target="slides/slide109.xml"/><Relationship Id="rId115" Type="http://schemas.openxmlformats.org/officeDocument/2006/relationships/slide" Target="slides/slide110.xml"/><Relationship Id="rId1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6B45-6588-4ED3-8029-B867006A1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4CC7-8638-4DC4-A0DE-374E8F893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B516-0248-4644-BC3C-3C64BE02E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800F-AF1A-4670-A73C-8D25EA4B4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1DF94-6262-4EC8-862B-614DF34D5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C4733-6C01-4DF2-BE48-1D6AB9FBF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3AB4A-E52A-4D92-B148-AD8A867E4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A9A1E-23C1-4AFE-BB4F-4FF1A48DB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16EE0-AD0B-4680-B10A-F42BED058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EC712-2DDC-4282-9431-731E24033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126F7-C681-4C37-8874-4DE669A15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9A80-E73D-4E70-87DF-501772B94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3CA32-E550-407E-9A53-D488A7EB4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B2B06-36E5-457C-BAFA-CA522E48D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1E02D-37DE-4A9D-A235-33E6B1E04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D8AD4-F718-4079-9A8D-1A478E393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581E8-6A7A-49A2-ABA5-F4FCA0DBD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715D2-23C3-49BB-9356-0C19EE3BC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CE3C8-D98D-4A42-AC8F-B265F94A6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705E8-087B-4849-949E-6584F6AAE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9F02A-7A22-4846-B231-55DD480A1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54503-60E2-416E-9970-F475F22A3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EF86-0383-4EEB-9844-18C04016D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D303B-1A8D-4599-A8E5-2F7EE581F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D5860-27AF-4A50-83CF-92B962987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6CDFB-D758-4EB0-8E4D-822E0BEEE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5F435-93D8-4279-9FE2-12DA4C694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70392-F1F3-45F4-A891-1E9582B47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BC461-8C15-4FD3-A797-B8920FA95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6B6C6-A551-4538-8F20-BE86A326C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FC0C6-4707-49F7-8E8E-CFF82CF04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42505-4AC6-41D7-BB5B-AD52BA6D2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A5B337-86A4-4E31-B441-D3BFDFF94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CF9F-C49A-4EEE-B7BA-A6D6B7414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01436-A8D9-4213-9FA4-AC4E11B90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492AE-A075-42D3-B5C4-A0AC40D04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D3763-5F62-4B7C-A02A-0BC3C92A8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3C411-F5EB-4D38-8584-07C427ECF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ECC42-368F-4412-B285-20004851F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376D1-F884-4604-8BA7-4978C001E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53032-BD51-436D-B543-824475412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E9B26-864E-4E5C-B709-F14E0DDFB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967E5C-F5E0-4C70-84DC-A2132C9ED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78C4-C89F-40D5-B4D9-954143E45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D287-8DDF-4C31-9C52-5D2B07C08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635D-86A9-4924-919C-9F635412E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016F-842F-4976-8F89-112E40606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6EC0-146A-4286-BE3F-808500985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900" spc="-1" strike="noStrike">
                <a:solidFill>
                  <a:srgbClr val="5fcbe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6F14D-9BD6-4696-B9FB-DE154A1570EF}" type="slidenum">
              <a:rPr b="0" lang="es-ES" sz="900" spc="-1" strike="noStrike">
                <a:solidFill>
                  <a:srgbClr val="5fcbe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2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2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3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3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3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3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3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3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5fcbe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900" spc="-1" strike="noStrike">
                <a:solidFill>
                  <a:srgbClr val="5fcbe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FC046-06A1-4C19-8C6F-501C577CD9CD}" type="slidenum">
              <a:rPr b="0" lang="es-ES" sz="900" spc="-1" strike="noStrike">
                <a:solidFill>
                  <a:srgbClr val="5fcbe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900" spc="-1" strike="noStrike">
                <a:solidFill>
                  <a:srgbClr val="5fcbe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04F5F-5BE4-4135-99E7-530B2AA34668}" type="slidenum">
              <a:rPr b="0" lang="es-ES" sz="900" spc="-1" strike="noStrike">
                <a:solidFill>
                  <a:srgbClr val="5fcbe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900" spc="-1" strike="noStrike">
                <a:solidFill>
                  <a:srgbClr val="5fcbe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5F535-528C-4F77-A3AB-A98F03619E52}" type="slidenum">
              <a:rPr b="0" lang="es-ES" sz="900" spc="-1" strike="noStrike">
                <a:solidFill>
                  <a:srgbClr val="5fcbe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upo 12"/>
          <p:cNvGrpSpPr/>
          <p:nvPr/>
        </p:nvGrpSpPr>
        <p:grpSpPr>
          <a:xfrm>
            <a:off x="684360" y="1773360"/>
            <a:ext cx="6583320" cy="3385800"/>
            <a:chOff x="684360" y="1773360"/>
            <a:chExt cx="6583320" cy="3385800"/>
          </a:xfrm>
        </p:grpSpPr>
        <p:sp>
          <p:nvSpPr>
            <p:cNvPr id="213" name="Rectángulo 1"/>
            <p:cNvSpPr/>
            <p:nvPr/>
          </p:nvSpPr>
          <p:spPr>
            <a:xfrm>
              <a:off x="684360" y="1773360"/>
              <a:ext cx="658332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7200" spc="-1" strike="noStrike">
                  <a:solidFill>
                    <a:srgbClr val="000000"/>
                  </a:solidFill>
                  <a:latin typeface="Baskerville Old Face"/>
                </a:rPr>
                <a:t>MARAVILLAS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7200" spc="-1" strike="noStrike">
                  <a:solidFill>
                    <a:srgbClr val="000000"/>
                  </a:solidFill>
                  <a:latin typeface="Century Gothic"/>
                </a:rPr>
                <a:t>OBRADAS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4400" spc="-1" strike="noStrike">
                  <a:solidFill>
                    <a:srgbClr val="000000"/>
                  </a:solidFill>
                  <a:latin typeface="Century Gothic"/>
                </a:rPr>
                <a:t>por  la </a:t>
              </a:r>
              <a:r>
                <a:rPr b="0" lang="es-ES" sz="7200" spc="-1" strike="noStrike">
                  <a:solidFill>
                    <a:srgbClr val="000000"/>
                  </a:solidFill>
                  <a:latin typeface="Century Gothic"/>
                </a:rPr>
                <a:t>FE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Conector recto 7"/>
            <p:cNvSpPr/>
            <p:nvPr/>
          </p:nvSpPr>
          <p:spPr>
            <a:xfrm>
              <a:off x="2628360" y="4437360"/>
              <a:ext cx="1584000" cy="0"/>
            </a:xfrm>
            <a:prstGeom prst="line">
              <a:avLst/>
            </a:prstGeom>
            <a:ln cap="rnd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Conector recto 10"/>
            <p:cNvSpPr/>
            <p:nvPr/>
          </p:nvSpPr>
          <p:spPr>
            <a:xfrm>
              <a:off x="2700360" y="5013720"/>
              <a:ext cx="1512000" cy="0"/>
            </a:xfrm>
            <a:prstGeom prst="line">
              <a:avLst/>
            </a:prstGeom>
            <a:ln cap="rnd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ángulo 1"/>
          <p:cNvSpPr/>
          <p:nvPr/>
        </p:nvSpPr>
        <p:spPr>
          <a:xfrm>
            <a:off x="666720" y="2200320"/>
            <a:ext cx="685800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Lo que necesitáis es paz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el perdón, la paz y el amor del cielo en el alma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ángulo 1"/>
          <p:cNvSpPr/>
          <p:nvPr/>
        </p:nvSpPr>
        <p:spPr>
          <a:xfrm>
            <a:off x="846000" y="2136600"/>
            <a:ext cx="6678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Alzad la vista los que vaciláis y tembláis; porque Jesús vive para interceder por nosotro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ángulo 1"/>
          <p:cNvSpPr/>
          <p:nvPr/>
        </p:nvSpPr>
        <p:spPr>
          <a:xfrm>
            <a:off x="936720" y="2349360"/>
            <a:ext cx="6514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Agradeced a Dios por el don de su Hijo amado y pedid que no haya muerto en vano por vosot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ángulo 1"/>
          <p:cNvSpPr/>
          <p:nvPr/>
        </p:nvSpPr>
        <p:spPr>
          <a:xfrm>
            <a:off x="1692360" y="2565360"/>
            <a:ext cx="5165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¡Su Espíritu os invita hoy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ángulo 1"/>
          <p:cNvSpPr/>
          <p:nvPr/>
        </p:nvSpPr>
        <p:spPr>
          <a:xfrm>
            <a:off x="1116000" y="2386080"/>
            <a:ext cx="6551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Id con todo vuestro corazón a Jesús y demandad sus bendi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ángulo 1"/>
          <p:cNvSpPr/>
          <p:nvPr/>
        </p:nvSpPr>
        <p:spPr>
          <a:xfrm>
            <a:off x="773280" y="2205000"/>
            <a:ext cx="6607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Cuando leáis las promesas, recordad que son la expresión de un amor y una piedad inef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ángulo 1"/>
          <p:cNvSpPr/>
          <p:nvPr/>
        </p:nvSpPr>
        <p:spPr>
          <a:xfrm>
            <a:off x="900000" y="2205000"/>
            <a:ext cx="6480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El gran corazón de amor infinito se siente atraído hacia el pecador por una compasión ilimita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ángulo 1"/>
          <p:cNvSpPr/>
          <p:nvPr/>
        </p:nvSpPr>
        <p:spPr>
          <a:xfrm>
            <a:off x="1042920" y="2212920"/>
            <a:ext cx="633744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"En quien tenemos redención por medio de su sangre, la remisión de nuestros pecados"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(Efesios 1: 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ángulo 1"/>
          <p:cNvSpPr/>
          <p:nvPr/>
        </p:nvSpPr>
        <p:spPr>
          <a:xfrm>
            <a:off x="1116000" y="2565360"/>
            <a:ext cx="6246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Sí, creed tan sólo que Dios es vuestro ayudad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ángulo 1"/>
          <p:cNvSpPr/>
          <p:nvPr/>
        </p:nvSpPr>
        <p:spPr>
          <a:xfrm>
            <a:off x="1295280" y="2565360"/>
            <a:ext cx="60134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El quiere restituir su imagen moral en el hombr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ángulo 1"/>
          <p:cNvSpPr/>
          <p:nvPr/>
        </p:nvSpPr>
        <p:spPr>
          <a:xfrm>
            <a:off x="1187280" y="2421000"/>
            <a:ext cx="6264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Acercaos a él con confesión y arrepentim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ángulo 1"/>
          <p:cNvSpPr/>
          <p:nvPr/>
        </p:nvSpPr>
        <p:spPr>
          <a:xfrm>
            <a:off x="611280" y="231444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No se los puede comprar con dinero, la inteligencia no los puede obtener, la sabiduría no los puede alcanz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ángulo 1"/>
          <p:cNvSpPr/>
          <p:nvPr/>
        </p:nvSpPr>
        <p:spPr>
          <a:xfrm>
            <a:off x="1403280" y="2421000"/>
            <a:ext cx="59594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y él se acercará a vosotros con misericordia y perdó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ángulo 1"/>
          <p:cNvSpPr/>
          <p:nvPr/>
        </p:nvSpPr>
        <p:spPr>
          <a:xfrm>
            <a:off x="684360" y="2421000"/>
            <a:ext cx="6965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nunca podéis esperar conseguirlos por vuestro propio esfuerzo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ángulo 1"/>
          <p:cNvSpPr/>
          <p:nvPr/>
        </p:nvSpPr>
        <p:spPr>
          <a:xfrm>
            <a:off x="1062000" y="1989000"/>
            <a:ext cx="6318360" cy="35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Mas Dios os lo ofrece como un d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"sin dinero y sin precio"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(Isaías 55: 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ángulo 1"/>
          <p:cNvSpPr/>
          <p:nvPr/>
        </p:nvSpPr>
        <p:spPr>
          <a:xfrm>
            <a:off x="1187280" y="2205000"/>
            <a:ext cx="6085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Son vuestros, con tal que extendáis la mano para tomarl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ángulo 1"/>
          <p:cNvSpPr/>
          <p:nvPr/>
        </p:nvSpPr>
        <p:spPr>
          <a:xfrm>
            <a:off x="900000" y="1341360"/>
            <a:ext cx="6408720" cy="42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l Señor dic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"¡Aunque vuestros pecados fuesen como la grana, como la nieve serán emblanquecidos; aunque fuesen rojos como el carmesí, como lana quedarán!"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(Isaías 1: 18)</a:t>
            </a: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ángulo 1"/>
          <p:cNvSpPr/>
          <p:nvPr/>
        </p:nvSpPr>
        <p:spPr>
          <a:xfrm>
            <a:off x="395280" y="2263680"/>
            <a:ext cx="712944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"También os daré un nuevo corazón, y pondré un espíritu nuevo en medio de vosotros"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(Ezequiel 36: 26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ángulo 1"/>
          <p:cNvSpPr/>
          <p:nvPr/>
        </p:nvSpPr>
        <p:spPr>
          <a:xfrm>
            <a:off x="863640" y="1989000"/>
            <a:ext cx="6300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Habéis confesado vuestros pecados y los habéis quitado de vuestro corazó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ángulo 1"/>
          <p:cNvSpPr/>
          <p:nvPr/>
        </p:nvSpPr>
        <p:spPr>
          <a:xfrm>
            <a:off x="1476360" y="2395440"/>
            <a:ext cx="536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Habéis resuelto entregaros a Di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ángulo 1"/>
          <p:cNvSpPr/>
          <p:nvPr/>
        </p:nvSpPr>
        <p:spPr>
          <a:xfrm>
            <a:off x="1116000" y="1822320"/>
            <a:ext cx="6048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Id pues a él y pedidle que os limpie de vuestros pecados y os dé un corazón nuev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ángulo 1"/>
          <p:cNvSpPr/>
          <p:nvPr/>
        </p:nvSpPr>
        <p:spPr>
          <a:xfrm>
            <a:off x="250920" y="2205000"/>
            <a:ext cx="7200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A medida que vuestra conciencia ha sido vivificada por el Espíritu Santo habéis visto algo de la perversidad del peca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ángulo 1"/>
          <p:cNvSpPr/>
          <p:nvPr/>
        </p:nvSpPr>
        <p:spPr>
          <a:xfrm>
            <a:off x="1332000" y="2205000"/>
            <a:ext cx="6030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Creed que lo hará porque lo ha prometid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ángulo 1"/>
          <p:cNvSpPr/>
          <p:nvPr/>
        </p:nvSpPr>
        <p:spPr>
          <a:xfrm>
            <a:off x="611280" y="2349360"/>
            <a:ext cx="6840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Esta es la lección que Jesús enseñó durante el tiempo que estuvo en la tier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ángulo 1"/>
          <p:cNvSpPr/>
          <p:nvPr/>
        </p:nvSpPr>
        <p:spPr>
          <a:xfrm>
            <a:off x="684360" y="2498760"/>
            <a:ext cx="6696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que debemos creer que recibimos el don que Dios nos promete y que es nuest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ángulo 1"/>
          <p:cNvSpPr/>
          <p:nvPr/>
        </p:nvSpPr>
        <p:spPr>
          <a:xfrm>
            <a:off x="990720" y="2421000"/>
            <a:ext cx="6460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que debemos creer que recibimos el don que Dios nos promete y que es nuest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ángulo 1"/>
          <p:cNvSpPr/>
          <p:nvPr/>
        </p:nvSpPr>
        <p:spPr>
          <a:xfrm>
            <a:off x="971640" y="2060640"/>
            <a:ext cx="6553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Jesús sanaba a los enfermos cuando tenían fe en su poder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ángulo 1"/>
          <p:cNvSpPr/>
          <p:nvPr/>
        </p:nvSpPr>
        <p:spPr>
          <a:xfrm>
            <a:off x="755640" y="2421000"/>
            <a:ext cx="662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les ayudaba con las cosas que podían ver, inspirándoles así confianza en él tocante a las cosas que no podían 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ángulo 1"/>
          <p:cNvSpPr/>
          <p:nvPr/>
        </p:nvSpPr>
        <p:spPr>
          <a:xfrm>
            <a:off x="990720" y="2139840"/>
            <a:ext cx="6318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induciéndolos a creer en su poder de perdonar pecad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ángulo 1"/>
          <p:cNvSpPr/>
          <p:nvPr/>
        </p:nvSpPr>
        <p:spPr>
          <a:xfrm>
            <a:off x="1295280" y="2133720"/>
            <a:ext cx="6013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Establece esto claramente en el caso del paralític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ángulo 1"/>
          <p:cNvSpPr/>
          <p:nvPr/>
        </p:nvSpPr>
        <p:spPr>
          <a:xfrm>
            <a:off x="395280" y="1874880"/>
            <a:ext cx="698508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"Mas para que sepáis que el Hijo del hombre tiene potestad en la tierra de perdonar pecados, dijo entonces al paralítico:  ¡Levántate, toma tu cama y vete a tu casa!"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(Mateo 9: 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ángulo 1"/>
          <p:cNvSpPr/>
          <p:nvPr/>
        </p:nvSpPr>
        <p:spPr>
          <a:xfrm>
            <a:off x="395280" y="2205000"/>
            <a:ext cx="7129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Así también Juan el evangelista, al hablar de los milagros de Crist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ángulo 1"/>
          <p:cNvSpPr/>
          <p:nvPr/>
        </p:nvSpPr>
        <p:spPr>
          <a:xfrm>
            <a:off x="846000" y="2492280"/>
            <a:ext cx="6534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de su poder, su culpa, su miseria; y lo miráis con aborrecimient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ángulo 1"/>
          <p:cNvSpPr/>
          <p:nvPr/>
        </p:nvSpPr>
        <p:spPr>
          <a:xfrm>
            <a:off x="755640" y="1228680"/>
            <a:ext cx="662472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dic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"Estas empero han sido escritas, para que creáis que Jesús es el Cristo, el Hijo de Dios; y para que creyendo, tengáis vida en su nombre"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(San Juan 20: 3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ángulo 1"/>
          <p:cNvSpPr/>
          <p:nvPr/>
        </p:nvSpPr>
        <p:spPr>
          <a:xfrm>
            <a:off x="611280" y="2212920"/>
            <a:ext cx="6769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Del simple relato de la Biblia de cómo Jesús sanaba a los enfermos podemos apr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ángulo 1"/>
          <p:cNvSpPr/>
          <p:nvPr/>
        </p:nvSpPr>
        <p:spPr>
          <a:xfrm>
            <a:off x="539640" y="1822320"/>
            <a:ext cx="6985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Aprendemos algo acerca del modo de ir a Cristo para que nos perdone nuestros pecad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ángulo 1"/>
          <p:cNvSpPr/>
          <p:nvPr/>
        </p:nvSpPr>
        <p:spPr>
          <a:xfrm>
            <a:off x="1206360" y="2276640"/>
            <a:ext cx="6318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Veamos ahora el caso del paralítico de Betesd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ángulo 1"/>
          <p:cNvSpPr/>
          <p:nvPr/>
        </p:nvSpPr>
        <p:spPr>
          <a:xfrm>
            <a:off x="611280" y="2205000"/>
            <a:ext cx="6769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Este pobre enfermo estaba imposibilitado; no había usado sus miembros por treinta y ocho añ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ángulo 1"/>
          <p:cNvSpPr/>
          <p:nvPr/>
        </p:nvSpPr>
        <p:spPr>
          <a:xfrm>
            <a:off x="1008000" y="2349360"/>
            <a:ext cx="622800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Con todo, Jesús le dijo: </a:t>
            </a: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"¡Levántate, alza tu camilla, y anda!"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ángulo 1"/>
          <p:cNvSpPr/>
          <p:nvPr/>
        </p:nvSpPr>
        <p:spPr>
          <a:xfrm>
            <a:off x="611280" y="2233440"/>
            <a:ext cx="691344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El paralítico podría haber dicho: </a:t>
            </a: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"Señor, si me sanas primero, obedeceré tu palabra"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ángulo 1"/>
          <p:cNvSpPr/>
          <p:nvPr/>
        </p:nvSpPr>
        <p:spPr>
          <a:xfrm>
            <a:off x="539640" y="2276640"/>
            <a:ext cx="6985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Pero no; creyó a la palabra de Cristo, creyó que estaba sano, e hizo el esfuerzo en seguida; quiso andar y anduv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ángulo 1"/>
          <p:cNvSpPr/>
          <p:nvPr/>
        </p:nvSpPr>
        <p:spPr>
          <a:xfrm>
            <a:off x="755640" y="2133720"/>
            <a:ext cx="6840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Confió en la palabra de Cristo y Dios le dio el poder y así quedó completamente san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ángulo 1"/>
          <p:cNvSpPr/>
          <p:nvPr/>
        </p:nvSpPr>
        <p:spPr>
          <a:xfrm>
            <a:off x="395280" y="2060640"/>
            <a:ext cx="712944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También tú eres pecador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No puedes expiar tus pecados pasados, no puedes cambiar tu corazón y hacerte sa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ángulo 1"/>
          <p:cNvSpPr/>
          <p:nvPr/>
        </p:nvSpPr>
        <p:spPr>
          <a:xfrm>
            <a:off x="684360" y="2098800"/>
            <a:ext cx="6696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Veis que el pecado os ha separado de Dios y que estáis bajo la servidumbre del poder del m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ángulo 1"/>
          <p:cNvSpPr/>
          <p:nvPr/>
        </p:nvSpPr>
        <p:spPr>
          <a:xfrm>
            <a:off x="1187280" y="2060640"/>
            <a:ext cx="608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Mas Dios promete hacer todo esto por ti mediante Cristo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ángulo 1"/>
          <p:cNvSpPr/>
          <p:nvPr/>
        </p:nvSpPr>
        <p:spPr>
          <a:xfrm>
            <a:off x="826920" y="1995480"/>
            <a:ext cx="6535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Crees en esa promes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Confiesas tus pecados y te entregas a Di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ángulo 1"/>
          <p:cNvSpPr/>
          <p:nvPr/>
        </p:nvSpPr>
        <p:spPr>
          <a:xfrm>
            <a:off x="468360" y="2492280"/>
            <a:ext cx="712800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Quieres servir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Tan ciertamente como haces esto, Dios cumplirá su palabra conti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ángulo 1"/>
          <p:cNvSpPr/>
          <p:nvPr/>
        </p:nvSpPr>
        <p:spPr>
          <a:xfrm>
            <a:off x="1042920" y="1773360"/>
            <a:ext cx="6481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Si crees la promesa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si crees que estás perdonado y limpiado, Dios suplirá el hec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ángulo 1"/>
          <p:cNvSpPr/>
          <p:nvPr/>
        </p:nvSpPr>
        <p:spPr>
          <a:xfrm>
            <a:off x="701640" y="2276640"/>
            <a:ext cx="6678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estás sano, tal como Cristo dio potencia al paralítico para andar cuando el hombre creyó que había sido sana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ángulo 1"/>
          <p:cNvSpPr/>
          <p:nvPr/>
        </p:nvSpPr>
        <p:spPr>
          <a:xfrm>
            <a:off x="539640" y="2220840"/>
            <a:ext cx="6985080" cy="24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sí es si así lo crees. No esperes sentir que estás sano, mas di: </a:t>
            </a: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"Lo creo; así es, no porque lo sienta, sino porque Dios lo ha prometido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ángulo 1"/>
          <p:cNvSpPr/>
          <p:nvPr/>
        </p:nvSpPr>
        <p:spPr>
          <a:xfrm>
            <a:off x="539640" y="2027160"/>
            <a:ext cx="691200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Dice Jesús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"Todo cuanto pidiereis en la oración, creed que lo recibisteis ya; y lo tendréis"</a:t>
            </a: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(Marcos 11: 2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ángulo 1"/>
          <p:cNvSpPr/>
          <p:nvPr/>
        </p:nvSpPr>
        <p:spPr>
          <a:xfrm>
            <a:off x="684360" y="2205000"/>
            <a:ext cx="6767280" cy="29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Hay una condición en esta promesa:  </a:t>
            </a: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que pidamos conforme a la voluntad de Di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ángulo 1"/>
          <p:cNvSpPr/>
          <p:nvPr/>
        </p:nvSpPr>
        <p:spPr>
          <a:xfrm>
            <a:off x="539640" y="2421000"/>
            <a:ext cx="691200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Pero es la voluntad de Dios limpiarnos de pecado, </a:t>
            </a: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hacernos hijos suyos y ponernos en actitud de vivir una vida san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ángulo 1"/>
          <p:cNvSpPr/>
          <p:nvPr/>
        </p:nvSpPr>
        <p:spPr>
          <a:xfrm>
            <a:off x="468360" y="2386080"/>
            <a:ext cx="6983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De modo que podemos pedir a Dios estas bendiciones, </a:t>
            </a: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creer que las recibimos y agradecerle por haberlas recibi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ángulo 1"/>
          <p:cNvSpPr/>
          <p:nvPr/>
        </p:nvSpPr>
        <p:spPr>
          <a:xfrm>
            <a:off x="1258920" y="2060640"/>
            <a:ext cx="5905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Cuanto más lucháis por escaparos, tanto más comprendéis vuestra impotenc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ángulo 1"/>
          <p:cNvSpPr/>
          <p:nvPr/>
        </p:nvSpPr>
        <p:spPr>
          <a:xfrm>
            <a:off x="395280" y="2349360"/>
            <a:ext cx="7129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Es nuestro privilegio ir a Jesús para que nos limpie, y estar en pie delante de la ley sin confusión ni remordimien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ángulo 1"/>
          <p:cNvSpPr/>
          <p:nvPr/>
        </p:nvSpPr>
        <p:spPr>
          <a:xfrm>
            <a:off x="414360" y="1844640"/>
            <a:ext cx="7110360" cy="36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"Así que ahora, ninguna condenación hay para los que están en Cristo Jesús, los que no andan conforme a la carne, sino conforme al Espíritu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(Romanos 8: 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ángulo 1"/>
          <p:cNvSpPr/>
          <p:nvPr/>
        </p:nvSpPr>
        <p:spPr>
          <a:xfrm>
            <a:off x="468360" y="2200320"/>
            <a:ext cx="6966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De modo que ya no sois vuestros; porque comprados sois por preci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ángulo 1"/>
          <p:cNvSpPr/>
          <p:nvPr/>
        </p:nvSpPr>
        <p:spPr>
          <a:xfrm>
            <a:off x="539640" y="1989000"/>
            <a:ext cx="6696360" cy="29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"Sabiendo que fuisteis redimidos, no con cosas corruptibles, como plata y oro, sino con preciosa sangre, la de Cristo, como de un cordero sin defecto e inmaculado"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(1 Pedro 1: 18, 1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ángulo 1"/>
          <p:cNvSpPr/>
          <p:nvPr/>
        </p:nvSpPr>
        <p:spPr>
          <a:xfrm>
            <a:off x="539640" y="2133720"/>
            <a:ext cx="6840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Por el simple hecho de creer en Dios, el Espíritu Santo ha engendrado una vida nueva en vuestro coraz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ángulo 1"/>
          <p:cNvSpPr/>
          <p:nvPr/>
        </p:nvSpPr>
        <p:spPr>
          <a:xfrm>
            <a:off x="539640" y="2349360"/>
            <a:ext cx="6696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Sois como un niño nacido en la familia de Dios, y él os ama como a su Hi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ángulo 1"/>
          <p:cNvSpPr/>
          <p:nvPr/>
        </p:nvSpPr>
        <p:spPr>
          <a:xfrm>
            <a:off x="917640" y="1779480"/>
            <a:ext cx="6318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Ahora bien, ya que os habéis consagrado a Jesús, no volváis atrás, no os separéis de él, mas todos los días decid:  </a:t>
            </a: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"Soy de Cristo; pertenezco a él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ángulo 1"/>
          <p:cNvSpPr/>
          <p:nvPr/>
        </p:nvSpPr>
        <p:spPr>
          <a:xfrm>
            <a:off x="1008000" y="2133720"/>
            <a:ext cx="6228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y pedidle que os dé su Espíritu y que os guarde por su grac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ángulo 1"/>
          <p:cNvSpPr/>
          <p:nvPr/>
        </p:nvSpPr>
        <p:spPr>
          <a:xfrm>
            <a:off x="539640" y="2243160"/>
            <a:ext cx="6840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Puesto que es consagrándoos a Dios y creyendo en él como sois hechos sus hijos, así también debéis vivir en é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ángulo 1"/>
          <p:cNvSpPr/>
          <p:nvPr/>
        </p:nvSpPr>
        <p:spPr>
          <a:xfrm>
            <a:off x="990720" y="2133720"/>
            <a:ext cx="646092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Dice el apóstol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"De la manera, pues que recibisteis a Cristo Jesús el Señor, así andad en él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(Colosenses 2: 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ángulo 1"/>
          <p:cNvSpPr/>
          <p:nvPr/>
        </p:nvSpPr>
        <p:spPr>
          <a:xfrm>
            <a:off x="846000" y="2205000"/>
            <a:ext cx="6462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Vuestros motivos son impuros, vuestro corazón está corrompi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ángulo 1"/>
          <p:cNvSpPr/>
          <p:nvPr/>
        </p:nvSpPr>
        <p:spPr>
          <a:xfrm>
            <a:off x="611280" y="1862280"/>
            <a:ext cx="6840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Algunos parecen creer que deben estar a prueba y que deben demostrar al Señor que se han reformado, antes de poder contar con su bendició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ángulo 1"/>
          <p:cNvSpPr/>
          <p:nvPr/>
        </p:nvSpPr>
        <p:spPr>
          <a:xfrm>
            <a:off x="1206360" y="2136600"/>
            <a:ext cx="5813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Mas ellos pueden pedir la bendición de Dios ahora mism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ángulo 1"/>
          <p:cNvSpPr/>
          <p:nvPr/>
        </p:nvSpPr>
        <p:spPr>
          <a:xfrm>
            <a:off x="826920" y="2274840"/>
            <a:ext cx="6535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Deben tener su gracia, el Espíritu de Cristo, para que los ayude en sus flaquez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ángulo 1"/>
          <p:cNvSpPr/>
          <p:nvPr/>
        </p:nvSpPr>
        <p:spPr>
          <a:xfrm>
            <a:off x="917640" y="2492280"/>
            <a:ext cx="646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de otra manera no pueden resistir al m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ángulo 1"/>
          <p:cNvSpPr/>
          <p:nvPr/>
        </p:nvSpPr>
        <p:spPr>
          <a:xfrm>
            <a:off x="1187280" y="2133720"/>
            <a:ext cx="6193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Jesús se complace en que vayamos a él como somos, </a:t>
            </a: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pecaminosos, impotentes, necesit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ángulo 1"/>
          <p:cNvSpPr/>
          <p:nvPr/>
        </p:nvSpPr>
        <p:spPr>
          <a:xfrm>
            <a:off x="846000" y="1844640"/>
            <a:ext cx="6534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Podemos ir con toda nuestra debilidad, insensatez y maldad y caer arrepentidos a sus p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ángulo 1"/>
          <p:cNvSpPr/>
          <p:nvPr/>
        </p:nvSpPr>
        <p:spPr>
          <a:xfrm>
            <a:off x="990720" y="2027160"/>
            <a:ext cx="6389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Es su gloria estrecharnos en los brazos de su amor, vendar nuestras heridas y limpiarnos de toda impure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ángulo 1"/>
          <p:cNvSpPr/>
          <p:nvPr/>
        </p:nvSpPr>
        <p:spPr>
          <a:xfrm>
            <a:off x="1008000" y="2205000"/>
            <a:ext cx="637236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Miles se equivocan en esto:  </a:t>
            </a: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no creen que Jesús les perdona personal e individualmen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ángulo 1"/>
          <p:cNvSpPr/>
          <p:nvPr/>
        </p:nvSpPr>
        <p:spPr>
          <a:xfrm>
            <a:off x="990720" y="2550960"/>
            <a:ext cx="6245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No creen al pie de la letra lo que Dios di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ángulo 1"/>
          <p:cNvSpPr/>
          <p:nvPr/>
        </p:nvSpPr>
        <p:spPr>
          <a:xfrm>
            <a:off x="684360" y="2492280"/>
            <a:ext cx="676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Es el privilegio de todos los que llenan las condiciones saber por sí mismos que el perdón de todo pecado es gratui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ángulo 1"/>
          <p:cNvSpPr/>
          <p:nvPr/>
        </p:nvSpPr>
        <p:spPr>
          <a:xfrm>
            <a:off x="773280" y="2276640"/>
            <a:ext cx="6607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Veis que vuestra vida ha estado colmada de egoísmo y peca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ángulo 1"/>
          <p:cNvSpPr/>
          <p:nvPr/>
        </p:nvSpPr>
        <p:spPr>
          <a:xfrm>
            <a:off x="684360" y="2349360"/>
            <a:ext cx="6624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Alejad la sospecha de que las promesas de Dios no son para vosotr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ángulo 1"/>
          <p:cNvSpPr/>
          <p:nvPr/>
        </p:nvSpPr>
        <p:spPr>
          <a:xfrm>
            <a:off x="990720" y="2538360"/>
            <a:ext cx="6245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Son para todo pecador arrepentid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ángulo 1"/>
          <p:cNvSpPr/>
          <p:nvPr/>
        </p:nvSpPr>
        <p:spPr>
          <a:xfrm>
            <a:off x="611280" y="2284560"/>
            <a:ext cx="6913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Cristo ha provisto fuerza y gracia para que los ángeles ministradores las lleven a toda alma crey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ángulo 1"/>
          <p:cNvSpPr/>
          <p:nvPr/>
        </p:nvSpPr>
        <p:spPr>
          <a:xfrm>
            <a:off x="826920" y="2276640"/>
            <a:ext cx="655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Ninguno hay tan malvado que no encuentre fuerza, pureza y justicia en Jesús, que murió por los pecado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ángulo 1"/>
          <p:cNvSpPr/>
          <p:nvPr/>
        </p:nvSpPr>
        <p:spPr>
          <a:xfrm>
            <a:off x="468360" y="2492280"/>
            <a:ext cx="705636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l está esperándolos para cambiarles los vestidos sucios y corrompidos del pecado por las vestiduras blancas de la justicia; </a:t>
            </a: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les da vida y no perecerá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ángulo 1"/>
          <p:cNvSpPr/>
          <p:nvPr/>
        </p:nvSpPr>
        <p:spPr>
          <a:xfrm>
            <a:off x="1224000" y="1916280"/>
            <a:ext cx="6084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Dios no nos trata como los hombres se tratan entre sí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ángulo 1"/>
          <p:cNvSpPr/>
          <p:nvPr/>
        </p:nvSpPr>
        <p:spPr>
          <a:xfrm>
            <a:off x="755640" y="2139840"/>
            <a:ext cx="6624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Sus pensamientos son pensamientos de misericordia, de amor y de la más tierna compas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ángulo 1"/>
          <p:cNvSpPr/>
          <p:nvPr/>
        </p:nvSpPr>
        <p:spPr>
          <a:xfrm>
            <a:off x="755640" y="1884240"/>
            <a:ext cx="6678720" cy="29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El dice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"¡Deje el malo su camino, y el hombre inicuo sus pensamientos, y vuélvase a Jehová, el cual tendrá compasión de él, y a nuestro Dios, porque es grande en perdonar!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ángulo 1"/>
          <p:cNvSpPr/>
          <p:nvPr/>
        </p:nvSpPr>
        <p:spPr>
          <a:xfrm>
            <a:off x="1008000" y="2276640"/>
            <a:ext cx="6300720" cy="24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"He borrado, como nublado, tus transgresiones, y como una nube tus pecados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(Isaías 55: 7; 44: 2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ángulo 1"/>
          <p:cNvSpPr/>
          <p:nvPr/>
        </p:nvSpPr>
        <p:spPr>
          <a:xfrm>
            <a:off x="1079640" y="2060640"/>
            <a:ext cx="601344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"No me complazco en la muerte del que muere, dice Jehová el Señor:  ¡volveos pues, y vivid!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(Ezequiel 18: 3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ángulo 1"/>
          <p:cNvSpPr/>
          <p:nvPr/>
        </p:nvSpPr>
        <p:spPr>
          <a:xfrm>
            <a:off x="846000" y="2708280"/>
            <a:ext cx="667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Ansiáis ser perdonados, limpiados y libertad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ángulo 1"/>
          <p:cNvSpPr/>
          <p:nvPr/>
        </p:nvSpPr>
        <p:spPr>
          <a:xfrm>
            <a:off x="846000" y="2205000"/>
            <a:ext cx="6605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Satanás está pronto para quitarnos la bendita seguridad que Dios nos 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ángulo 1"/>
          <p:cNvSpPr/>
          <p:nvPr/>
        </p:nvSpPr>
        <p:spPr>
          <a:xfrm>
            <a:off x="1008000" y="1989000"/>
            <a:ext cx="630072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Desea quitarnos toda vislumbre de esperanza y todo rayo de luz del alma;</a:t>
            </a: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mas no se lo permitái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ángulo 1"/>
          <p:cNvSpPr/>
          <p:nvPr/>
        </p:nvSpPr>
        <p:spPr>
          <a:xfrm>
            <a:off x="504720" y="2365200"/>
            <a:ext cx="7020000" cy="24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No prestéis oído al tentador, antes deci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Jesús ha muerto para que yo viva. Me ama y no  quiere que perezca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ángulo 1"/>
          <p:cNvSpPr/>
          <p:nvPr/>
        </p:nvSpPr>
        <p:spPr>
          <a:xfrm>
            <a:off x="755640" y="2558880"/>
            <a:ext cx="67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Tengo un Padre celestial muy compasi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ángulo 1"/>
          <p:cNvSpPr/>
          <p:nvPr/>
        </p:nvSpPr>
        <p:spPr>
          <a:xfrm>
            <a:off x="846000" y="2133720"/>
            <a:ext cx="6605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y aunque he abusado de su amor y he disipado las bendiciones que me ha dado, me levantaré e iré a mi Pad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ángulo 1"/>
          <p:cNvSpPr/>
          <p:nvPr/>
        </p:nvSpPr>
        <p:spPr>
          <a:xfrm>
            <a:off x="539640" y="1844640"/>
            <a:ext cx="684072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y le diré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"¡Padre, he pecado contra el cielo y delante de ti; ya no soy digno de ser llamado hijo tuyo:  haz que yo sea como uno de tus jornaleros!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ángulo 1"/>
          <p:cNvSpPr/>
          <p:nvPr/>
        </p:nvSpPr>
        <p:spPr>
          <a:xfrm>
            <a:off x="468360" y="2637000"/>
            <a:ext cx="698328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n la parábola vemos cómo será recibido el extravi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s-ES" sz="2800" spc="-1" strike="noStrike">
                <a:solidFill>
                  <a:srgbClr val="000000"/>
                </a:solidFill>
                <a:latin typeface="Calibri"/>
              </a:rPr>
              <a:t>Y estando todavía lejos, le vio su padre; y conmoviéronsele las entrañas; y corrió, y le echó los brazos al cuello, y le besó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(Lucas 15:  18 - 2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ángulo 1"/>
          <p:cNvSpPr/>
          <p:nvPr/>
        </p:nvSpPr>
        <p:spPr>
          <a:xfrm>
            <a:off x="684360" y="2416320"/>
            <a:ext cx="676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Más aún esta parábola, tan tierna y conmovedora, es apenas un reflejo de la compasión de nuestro Padre celest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ángulo 1"/>
          <p:cNvSpPr/>
          <p:nvPr/>
        </p:nvSpPr>
        <p:spPr>
          <a:xfrm>
            <a:off x="1295280" y="2190600"/>
            <a:ext cx="6085080" cy="26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l Señor declara por su profet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Con amor eterno te he amado, por tanto te he extendido mi misericordia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(Jeremías 31: 3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ángulo 1"/>
          <p:cNvSpPr/>
          <p:nvPr/>
        </p:nvSpPr>
        <p:spPr>
          <a:xfrm>
            <a:off x="1042920" y="1852560"/>
            <a:ext cx="6175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uando el pecador está aún lejos de la casa de su padre desperdiciando su hacienda en un país extranjero, </a:t>
            </a: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el corazón del Padre se compadece de é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ángulo 1"/>
          <p:cNvSpPr/>
          <p:nvPr/>
        </p:nvSpPr>
        <p:spPr>
          <a:xfrm>
            <a:off x="900000" y="2276640"/>
            <a:ext cx="6534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¿Qué podéis hacer para obtener la armonía con Dios y la semejanza a él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ángulo 1"/>
          <p:cNvSpPr/>
          <p:nvPr/>
        </p:nvSpPr>
        <p:spPr>
          <a:xfrm>
            <a:off x="863640" y="2133720"/>
            <a:ext cx="6445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y cada deseo profundo de volver a Dios, despertado en el alma, no es sino la tierna invitación de su Espíri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ángulo 1"/>
          <p:cNvSpPr/>
          <p:nvPr/>
        </p:nvSpPr>
        <p:spPr>
          <a:xfrm>
            <a:off x="1079640" y="2097000"/>
            <a:ext cx="6156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que insta, ruega y atrae al extraviado al seno amorosísimo de su Pad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ángulo 1"/>
          <p:cNvSpPr/>
          <p:nvPr/>
        </p:nvSpPr>
        <p:spPr>
          <a:xfrm>
            <a:off x="684360" y="2271600"/>
            <a:ext cx="669600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Con tan preciosas promesas bíblicas delante de vosot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¿podéis dar lugar a la duda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ángulo 1"/>
          <p:cNvSpPr/>
          <p:nvPr/>
        </p:nvSpPr>
        <p:spPr>
          <a:xfrm>
            <a:off x="611280" y="2205000"/>
            <a:ext cx="6769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¿Podéis creer que cuando el pobre pecador desea volver, desea abandonar sus pecados, el Señor le impide decididamente que venga arrepentido a sus pi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ángulo 1"/>
          <p:cNvSpPr/>
          <p:nvPr/>
        </p:nvSpPr>
        <p:spPr>
          <a:xfrm>
            <a:off x="684360" y="2313000"/>
            <a:ext cx="6696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¡Fuera con tales pensamientos! 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Nada puede destruir más vuestra propia alma que tener tal concepto de vuestro Padre celest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ángulo 1"/>
          <p:cNvSpPr/>
          <p:nvPr/>
        </p:nvSpPr>
        <p:spPr>
          <a:xfrm>
            <a:off x="1349280" y="2068560"/>
            <a:ext cx="5886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El aborrece el pecado, mas ama al pecado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ángulo 1"/>
          <p:cNvSpPr/>
          <p:nvPr/>
        </p:nvSpPr>
        <p:spPr>
          <a:xfrm>
            <a:off x="684360" y="2492280"/>
            <a:ext cx="6624360" cy="19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Habiéndose dado, en la persona de Cristo, 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para todos los que quieran puedan ser salvos y tener bendiciones eternas en el reino de glo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ángulo 1"/>
          <p:cNvSpPr/>
          <p:nvPr/>
        </p:nvSpPr>
        <p:spPr>
          <a:xfrm>
            <a:off x="611280" y="2421000"/>
            <a:ext cx="684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¿Qué lenguaje más tierno o más fuerte podría haberse empleado que el elegido por él para expresar su amor hacia nosotro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ángulo 1"/>
          <p:cNvSpPr/>
          <p:nvPr/>
        </p:nvSpPr>
        <p:spPr>
          <a:xfrm>
            <a:off x="971640" y="2205000"/>
            <a:ext cx="631800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l declara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¿Se olvidará acaso la mujer de su niño mamante, de modo que no tenga compasión del hijo de sus entrañas?...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ángulo 1"/>
          <p:cNvSpPr/>
          <p:nvPr/>
        </p:nvSpPr>
        <p:spPr>
          <a:xfrm>
            <a:off x="1258920" y="2708280"/>
            <a:ext cx="619272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“…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¡Aún las tales le pueden olvidar; mas no me olvidaré yo de ti!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(Isaías 49: 1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1T20:33:45Z</dcterms:created>
  <dc:creator>Orlando Rosales</dc:creator>
  <dc:description/>
  <dc:language>en-US</dc:language>
  <cp:lastModifiedBy>Karina de Martin</cp:lastModifiedBy>
  <dcterms:modified xsi:type="dcterms:W3CDTF">2017-03-12T19:47:49Z</dcterms:modified>
  <cp:revision>33</cp:revision>
  <dc:subject/>
  <dc:title>Diapositiva 1</dc:title>
</cp:coreProperties>
</file>